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B77-B93F-4C50-B892-73F82F57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B83-53D7-48B9-8CEC-FC7BE35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812-37C8-481E-A4A5-8454FD96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C94-11F0-49D6-A839-90C4D00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F9E-296C-404D-A46E-512AAEF0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837-7841-4890-8AF5-A9473758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E18-B086-4ABC-B304-D4B58D7C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A5D-2C6A-4D96-B860-8F5098D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D582-3B73-4D51-8C6D-7589C254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7DB-F0D0-4320-946B-C20163A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77F7-4D2C-4A02-8DD9-E12EF83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834-49FA-42B4-B95E-5CE990D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DD7D-6F2B-4AE3-A88B-1C25FD15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F14B-AC32-4E72-AD9E-EA633DD8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91E-DDDC-4FB1-9067-8B8B8F5E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C64-D945-4072-8AAE-D75E6799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A7CD-8747-486F-BE99-A5D4AE3D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01424-F848-4CE8-9601-83538908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ABC38-E676-48EA-88E5-A9E7E8E9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10FFE-9DB2-4843-BDA0-E61047E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1CBB5-AC29-4958-8062-978F30E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25F7B-B9F5-45D3-8749-0E27C69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A55-0176-405C-935B-9CB72806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06F43-6177-4B7E-A063-F7DF17E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2852B-2853-430B-9919-0D39C13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A62CD-7CED-42C1-96B5-EBD5803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7A82F-C7B6-4C1E-BC0F-85C2266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4C751-6601-40DB-AFC7-A2C8364A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A3B46-C45F-4B46-A4FC-BB8204DD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CBCF-E560-44A1-8C44-2CBA702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4B64-A27C-40BF-A112-B7276C18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94A5-8819-4F22-AA09-0F9185E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7665-F811-44AF-A74C-94FB9ABC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5BB-E612-4D50-925F-C652FAC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662FA-1121-494D-8BCF-08FA545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9A82-1E39-43C9-B26F-689A05B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9235-8F8D-4387-93D5-8199AD7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DB4B-5934-408F-90B1-5A3EBDE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8871-C278-4555-B573-1769824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FA53-D235-4236-BE6D-AEE2A3A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08D1-FC85-4E68-B09F-1552E1C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4832-B001-4793-836C-10D94DA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2BB8-3797-482C-AF78-4206BE47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D80-37A0-43DD-844A-A4CF5CC6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F2D-59CF-4834-8629-0D36023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11B-F335-4663-8408-5267CD82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DD5-95F0-4063-80D9-41A7799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826-443A-43FC-9729-D10002A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DC9-EE9B-4E26-9098-4944A019A059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6D2-596A-44E4-AEC3-D9C6185EE6E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7E49-F93F-4681-9EE2-0B082D565198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CCC-8D80-4E64-A3C8-7B2BDE51260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 z 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ułamka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9"/>
              <p:cNvSpPr txBox="1"/>
              <p:nvPr/>
            </p:nvSpPr>
            <p:spPr>
              <a:xfrm>
                <a:off x="611280" y="4292640"/>
                <a:ext cx="2736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3"/>
              <p:cNvSpPr txBox="1"/>
              <p:nvPr/>
            </p:nvSpPr>
            <p:spPr>
              <a:xfrm>
                <a:off x="3851280" y="5589720"/>
                <a:ext cx="3313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532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br>
              <a:rPr sz="2000"/>
            </a:b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Przykład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684360" y="1844640"/>
            <a:ext cx="3600360" cy="865080"/>
          </a:xfrm>
          <a:prstGeom prst="wedgeRectCallout">
            <a:avLst>
              <a:gd name="adj1" fmla="val 3000"/>
              <a:gd name="adj2" fmla="val -111833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mownie możemy przyjąć, że równanie składa się z trzech wyraz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1619280" y="3213000"/>
            <a:ext cx="2736720" cy="649440"/>
          </a:xfrm>
          <a:prstGeom prst="wedgeRectCallout">
            <a:avLst>
              <a:gd name="adj1" fmla="val 62356"/>
              <a:gd name="adj2" fmla="val -23351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raz pierwszy to 3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5580000" y="1125360"/>
            <a:ext cx="3241800" cy="648000"/>
          </a:xfrm>
          <a:prstGeom prst="wedgeRectCallout">
            <a:avLst>
              <a:gd name="adj1" fmla="val 4749"/>
              <a:gd name="adj2" fmla="val 142893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Drugi wyraz to ułamek wraz ze znaki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7"/>
          <p:cNvSpPr/>
          <p:nvPr/>
        </p:nvSpPr>
        <p:spPr>
          <a:xfrm>
            <a:off x="5724360" y="4365720"/>
            <a:ext cx="2737080" cy="433440"/>
          </a:xfrm>
          <a:prstGeom prst="wedgeRectCallout">
            <a:avLst>
              <a:gd name="adj1" fmla="val 37703"/>
              <a:gd name="adj2" fmla="val -13974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Trzeci wyraz to liczba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5"/>
          <p:cNvSpPr/>
          <p:nvPr/>
        </p:nvSpPr>
        <p:spPr>
          <a:xfrm>
            <a:off x="7885080" y="2708280"/>
            <a:ext cx="816120" cy="93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6"/>
          <p:cNvSpPr/>
          <p:nvPr/>
        </p:nvSpPr>
        <p:spPr>
          <a:xfrm>
            <a:off x="5724360" y="2349360"/>
            <a:ext cx="1943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0"/>
          <p:cNvSpPr/>
          <p:nvPr/>
        </p:nvSpPr>
        <p:spPr>
          <a:xfrm>
            <a:off x="4859280" y="2708280"/>
            <a:ext cx="792360" cy="9367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62"/>
              <p:cNvSpPr txBox="1"/>
              <p:nvPr/>
            </p:nvSpPr>
            <p:spPr>
              <a:xfrm>
                <a:off x="4932360" y="2421000"/>
                <a:ext cx="352908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24000" y="1268280"/>
            <a:ext cx="3744720" cy="1297080"/>
          </a:xfrm>
          <a:prstGeom prst="wedgeRectCallout">
            <a:avLst>
              <a:gd name="adj1" fmla="val 66023"/>
              <a:gd name="adj2" fmla="val 3837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by rozwiązać równanie tego typu w pierwszej kolejności uwalniamy się od ułamka, w tym celu obie strony równania mnożymy przez mianownik                                                     czyli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403280" y="2852640"/>
            <a:ext cx="2737080" cy="649440"/>
          </a:xfrm>
          <a:prstGeom prst="wedgeRectCallout">
            <a:avLst>
              <a:gd name="adj1" fmla="val 64444"/>
              <a:gd name="adj2" fmla="val 209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rzez 2 mnożymy każdy wyraz równ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755640" y="3933720"/>
            <a:ext cx="3241800" cy="576360"/>
          </a:xfrm>
          <a:prstGeom prst="wedgeRectCallout">
            <a:avLst>
              <a:gd name="adj1" fmla="val 63125"/>
              <a:gd name="adj2" fmla="val -4504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ykonujemy mnożenie, warto pamiętać o skracan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332000" y="4797360"/>
            <a:ext cx="2736720" cy="433440"/>
          </a:xfrm>
          <a:prstGeom prst="wedgeRectCallout">
            <a:avLst>
              <a:gd name="adj1" fmla="val 72620"/>
              <a:gd name="adj2" fmla="val -125458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042920" y="5734080"/>
            <a:ext cx="3024360" cy="793800"/>
          </a:xfrm>
          <a:prstGeom prst="wedgeRectCallout">
            <a:avLst>
              <a:gd name="adj1" fmla="val 73097"/>
              <a:gd name="adj2" fmla="val 8800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ozwiązaniem równania jest licz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2"/>
              <p:cNvSpPr txBox="1"/>
              <p:nvPr/>
            </p:nvSpPr>
            <p:spPr>
              <a:xfrm>
                <a:off x="4930920" y="1197000"/>
                <a:ext cx="20890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3"/>
              <p:cNvSpPr txBox="1"/>
              <p:nvPr/>
            </p:nvSpPr>
            <p:spPr>
              <a:xfrm>
                <a:off x="4859280" y="1989000"/>
                <a:ext cx="39607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6"/>
              <p:cNvSpPr txBox="1"/>
              <p:nvPr/>
            </p:nvSpPr>
            <p:spPr>
              <a:xfrm>
                <a:off x="4932360" y="2852640"/>
                <a:ext cx="3527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19"/>
          <p:cNvSpPr/>
          <p:nvPr/>
        </p:nvSpPr>
        <p:spPr>
          <a:xfrm>
            <a:off x="6156360" y="3068640"/>
            <a:ext cx="216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>
            <a:off x="6877080" y="3427560"/>
            <a:ext cx="216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1"/>
              <p:cNvSpPr txBox="1"/>
              <p:nvPr/>
            </p:nvSpPr>
            <p:spPr>
              <a:xfrm>
                <a:off x="4932360" y="3921120"/>
                <a:ext cx="3743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22"/>
          <p:cNvSpPr/>
          <p:nvPr/>
        </p:nvSpPr>
        <p:spPr>
          <a:xfrm>
            <a:off x="6229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0948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4"/>
              <p:cNvSpPr txBox="1"/>
              <p:nvPr/>
            </p:nvSpPr>
            <p:spPr>
              <a:xfrm>
                <a:off x="4932360" y="4500720"/>
                <a:ext cx="317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6"/>
              <p:cNvSpPr txBox="1"/>
              <p:nvPr/>
            </p:nvSpPr>
            <p:spPr>
              <a:xfrm>
                <a:off x="4932360" y="5084640"/>
                <a:ext cx="2332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7"/>
              <p:cNvSpPr txBox="1"/>
              <p:nvPr/>
            </p:nvSpPr>
            <p:spPr>
              <a:xfrm>
                <a:off x="5003640" y="5661000"/>
                <a:ext cx="1035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8"/>
              <p:cNvSpPr txBox="1"/>
              <p:nvPr/>
            </p:nvSpPr>
            <p:spPr>
              <a:xfrm>
                <a:off x="7308720" y="5157720"/>
                <a:ext cx="954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79280" y="1268280"/>
            <a:ext cx="3889440" cy="1008360"/>
          </a:xfrm>
          <a:prstGeom prst="wedgeRectCallout">
            <a:avLst>
              <a:gd name="adj1" fmla="val 65185"/>
              <a:gd name="adj2" fmla="val 3251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by rozwiązać równanie tego typu w pierwszej kolejności uwalniamy się od ułamka, w tym celu obie strony równania mnożymy przez wielokrotność liczby 5 i 2, np.: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179280" y="2349360"/>
            <a:ext cx="3097440" cy="649440"/>
          </a:xfrm>
          <a:prstGeom prst="wedgeRectCallout">
            <a:avLst>
              <a:gd name="adj1" fmla="val 22166"/>
              <a:gd name="adj2" fmla="val 74694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rzez 10 mnożymy każdy wyraz równ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7020000" y="3933720"/>
            <a:ext cx="1979640" cy="865440"/>
          </a:xfrm>
          <a:prstGeom prst="wedgeRectCallout">
            <a:avLst>
              <a:gd name="adj1" fmla="val -40777"/>
              <a:gd name="adj2" fmla="val -7201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wykonujemy mnożenie, warto pamiętać o skrac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108000" y="4005360"/>
            <a:ext cx="1079280" cy="1368360"/>
          </a:xfrm>
          <a:prstGeom prst="wedgeRectCallout">
            <a:avLst>
              <a:gd name="adj1" fmla="val 72500"/>
              <a:gd name="adj2" fmla="val -15083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eorgia"/>
              </a:rPr>
              <a:t>Uwalniamy się od nawiasu i redukujemy wyrazy podob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6012000" y="5229360"/>
            <a:ext cx="3024000" cy="793440"/>
          </a:xfrm>
          <a:prstGeom prst="wedgeRectCallout">
            <a:avLst>
              <a:gd name="adj1" fmla="val -28740"/>
              <a:gd name="adj2" fmla="val 8039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ozwiązaniem równania jest licz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1476360" y="3357720"/>
            <a:ext cx="35892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2556000" y="364500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2773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1694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1"/>
              <p:cNvSpPr txBox="1"/>
              <p:nvPr/>
            </p:nvSpPr>
            <p:spPr>
              <a:xfrm>
                <a:off x="1403280" y="4043520"/>
                <a:ext cx="554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1403280" y="4653000"/>
                <a:ext cx="5184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6012000" y="6381720"/>
                <a:ext cx="9554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4"/>
              <p:cNvSpPr txBox="1"/>
              <p:nvPr/>
            </p:nvSpPr>
            <p:spPr>
              <a:xfrm>
                <a:off x="4716360" y="1197000"/>
                <a:ext cx="251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6"/>
              <p:cNvSpPr txBox="1"/>
              <p:nvPr/>
            </p:nvSpPr>
            <p:spPr>
              <a:xfrm>
                <a:off x="4716360" y="2276640"/>
                <a:ext cx="4016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/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7"/>
              <p:cNvSpPr txBox="1"/>
              <p:nvPr/>
            </p:nvSpPr>
            <p:spPr>
              <a:xfrm>
                <a:off x="1492200" y="3176640"/>
                <a:ext cx="6535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Line 28"/>
          <p:cNvSpPr/>
          <p:nvPr/>
        </p:nvSpPr>
        <p:spPr>
          <a:xfrm>
            <a:off x="6012000" y="3645000"/>
            <a:ext cx="35856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5003640" y="3357720"/>
            <a:ext cx="35892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51501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6302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2"/>
              <p:cNvSpPr txBox="1"/>
              <p:nvPr/>
            </p:nvSpPr>
            <p:spPr>
              <a:xfrm>
                <a:off x="1403280" y="5229360"/>
                <a:ext cx="36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3"/>
              <p:cNvSpPr txBox="1"/>
              <p:nvPr/>
            </p:nvSpPr>
            <p:spPr>
              <a:xfrm>
                <a:off x="1403280" y="5734080"/>
                <a:ext cx="36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1403280" y="6237360"/>
                <a:ext cx="2206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3564000" y="6308640"/>
                <a:ext cx="1363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24456"/>
                </a:solidFill>
                <a:latin typeface="Trebuchet MS"/>
              </a:rPr>
              <a:t>Ćwiczenia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24000" y="1916280"/>
            <a:ext cx="3600360" cy="865080"/>
          </a:xfrm>
          <a:prstGeom prst="wedgeRectCallout">
            <a:avLst>
              <a:gd name="adj1" fmla="val 47310"/>
              <a:gd name="adj2" fmla="val -96421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Rozwiąż rów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6"/>
          <p:cNvGrpSpPr/>
          <p:nvPr/>
        </p:nvGrpSpPr>
        <p:grpSpPr>
          <a:xfrm>
            <a:off x="4379040" y="1917720"/>
            <a:ext cx="2604240" cy="1079640"/>
            <a:chOff x="4379040" y="1917720"/>
            <a:chExt cx="2604240" cy="1079640"/>
          </a:xfrm>
        </p:grpSpPr>
        <mc:AlternateContent>
          <mc:Choice xmlns:a14="http://schemas.microsoft.com/office/drawing/2010/main" Requires="a14">
            <p:sp>
              <p:nvSpPr>
                <p:cNvPr id="290" name="Object 14"/>
                <p:cNvSpPr txBox="1"/>
                <p:nvPr/>
              </p:nvSpPr>
              <p:spPr>
                <a:xfrm>
                  <a:off x="5219640" y="1917720"/>
                  <a:ext cx="176364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Text Box 22"/>
            <p:cNvSpPr/>
            <p:nvPr/>
          </p:nvSpPr>
          <p:spPr>
            <a:xfrm>
              <a:off x="4379040" y="2239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4379040" y="3141720"/>
            <a:ext cx="2785320" cy="938160"/>
            <a:chOff x="4379040" y="3141720"/>
            <a:chExt cx="2785320" cy="938160"/>
          </a:xfrm>
        </p:grpSpPr>
        <mc:AlternateContent>
          <mc:Choice xmlns:a14="http://schemas.microsoft.com/office/drawing/2010/main" Requires="a14">
            <p:sp>
              <p:nvSpPr>
                <p:cNvPr id="293" name="Object 16"/>
                <p:cNvSpPr txBox="1"/>
                <p:nvPr/>
              </p:nvSpPr>
              <p:spPr>
                <a:xfrm>
                  <a:off x="5219640" y="3141720"/>
                  <a:ext cx="194472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23"/>
            <p:cNvSpPr/>
            <p:nvPr/>
          </p:nvSpPr>
          <p:spPr>
            <a:xfrm>
              <a:off x="4379040" y="3392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8"/>
          <p:cNvGrpSpPr/>
          <p:nvPr/>
        </p:nvGrpSpPr>
        <p:grpSpPr>
          <a:xfrm>
            <a:off x="4378680" y="4241880"/>
            <a:ext cx="3396960" cy="1058760"/>
            <a:chOff x="4378680" y="4241880"/>
            <a:chExt cx="3396960" cy="1058760"/>
          </a:xfrm>
        </p:grpSpPr>
        <mc:AlternateContent>
          <mc:Choice xmlns:a14="http://schemas.microsoft.com/office/drawing/2010/main" Requires="a14">
            <p:sp>
              <p:nvSpPr>
                <p:cNvPr id="296" name="Object 18"/>
                <p:cNvSpPr txBox="1"/>
                <p:nvPr/>
              </p:nvSpPr>
              <p:spPr>
                <a:xfrm>
                  <a:off x="5219640" y="4241880"/>
                  <a:ext cx="2556000" cy="105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4"/>
            <p:cNvSpPr/>
            <p:nvPr/>
          </p:nvSpPr>
          <p:spPr>
            <a:xfrm>
              <a:off x="4378680" y="45086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9"/>
          <p:cNvGrpSpPr/>
          <p:nvPr/>
        </p:nvGrpSpPr>
        <p:grpSpPr>
          <a:xfrm>
            <a:off x="4379040" y="5373720"/>
            <a:ext cx="3612600" cy="1014480"/>
            <a:chOff x="4379040" y="5373720"/>
            <a:chExt cx="3612600" cy="1014480"/>
          </a:xfrm>
        </p:grpSpPr>
        <mc:AlternateContent>
          <mc:Choice xmlns:a14="http://schemas.microsoft.com/office/drawing/2010/main" Requires="a14">
            <p:sp>
              <p:nvSpPr>
                <p:cNvPr id="299" name="Object 20"/>
                <p:cNvSpPr txBox="1"/>
                <p:nvPr/>
              </p:nvSpPr>
              <p:spPr>
                <a:xfrm>
                  <a:off x="5219640" y="5373720"/>
                  <a:ext cx="27720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25"/>
            <p:cNvSpPr/>
            <p:nvPr/>
          </p:nvSpPr>
          <p:spPr>
            <a:xfrm>
              <a:off x="4379040" y="5661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48:30Z</dcterms:modified>
  <cp:revision>79</cp:revision>
  <dc:subject/>
  <dc:title>Prezentacja programu PowerPoint</dc:title>
</cp:coreProperties>
</file>